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FC2B-5995-4BF1-92DA-D7E070B3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DE09-FC3D-4AB5-B480-28CBD03C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4BE2-17B3-4FAF-8E77-8BA53A6C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281C-4413-4304-BEB9-FD9A7834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40AE-B09E-410E-B013-4098FAC7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2EC4-2378-44C5-AC93-5DA77E19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7785-9A7D-46E4-BC9A-3076FAF7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59A5-D4DD-48E5-97A0-652C5901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F79D-AD91-4B2B-B9FB-E0F19CE1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5682-7133-49BC-8C4C-A7B35F98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5A39-F68F-459C-A9DA-117EAA29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A5DD-62A8-403A-8DB4-E8D5BA63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1495-3B39-4F82-B5A4-96B60C99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EAA7-2BA2-4935-982F-1AAEB086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CD13-0293-49A1-B331-71625107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1EEB-F6A0-4DA9-9FF7-F1372F8B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BA1F-29FD-490A-909D-8A3F315D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F209-43FE-4DDD-ADC4-E326A973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5647-0C8D-42FC-BB62-DCFC5723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FCF1-E26B-41D5-A2C1-2BC1AD54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C5BA-3F13-4500-82E1-ED5B60E5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7ACD-380D-4368-8C91-F6B679B2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2869-5DD3-4324-8F2E-57F74A85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1857-DA31-4A11-8DFD-526FA498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86f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86f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D4E4-5AC1-4648-B532-62BDAFDA1BF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6f2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805C-8299-4601-AA98-3A9532014D7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hcs.ohio-state.edu/hcs300/glossary/glossary.htm" TargetMode="External"/><Relationship Id="rId2" Type="http://schemas.openxmlformats.org/officeDocument/2006/relationships/hyperlink" Target="http://classroom.jc-schools.net/sci-units/plants-animals.htm" TargetMode="External"/><Relationship Id="rId3" Type="http://schemas.openxmlformats.org/officeDocument/2006/relationships/hyperlink" Target="http://www.urbanext.uiuc.edu/gpe/case1/facts.html" TargetMode="External"/><Relationship Id="rId4" Type="http://schemas.openxmlformats.org/officeDocument/2006/relationships/hyperlink" Target="http://www.firstschoolyears.com/science/worksheets/plants/plants.html" TargetMode="External"/><Relationship Id="rId5" Type="http://schemas.openxmlformats.org/officeDocument/2006/relationships/hyperlink" Target="http://www.naturegrid.org.uk/plant/parts.html" TargetMode="External"/><Relationship Id="rId6" Type="http://schemas.openxmlformats.org/officeDocument/2006/relationships/hyperlink" Target="http://www.hhmi.org/coolscience/vegquiz/plantparts.html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Parts of a Plant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de 2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Picture 4" descr="cflowery6"/>
          <p:cNvPicPr/>
          <p:nvPr/>
        </p:nvPicPr>
        <p:blipFill>
          <a:blip r:embed="rId1"/>
          <a:stretch/>
        </p:blipFill>
        <p:spPr>
          <a:xfrm>
            <a:off x="7315200" y="1219320"/>
            <a:ext cx="1828800" cy="37558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et’s see what you learned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ich part of the plant makes food for the plant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rial"/>
              </a:rPr>
              <a:t>leaves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et’s see what you learned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ich part of the plant holds it above the ground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et’s see what you learned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ich part of the plant holds it above the ground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rial"/>
              </a:rPr>
              <a:t>stem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et’s see what you learned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ich part of the plant is usually colored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et’s see what you learned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ich part of the plant helps make seeds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rial"/>
              </a:rPr>
              <a:t>flower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 more practice go to: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hcs.ohio-state.edu/hcs300/glossary/glossary.ht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classroom.jc-schools.net/sci-units/plants-animals.ht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urbanext.uiuc.edu/gpe/case1/facts.htm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www.firstschoolyears.com/science/worksheets/plants/plants.htm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(go to label the plant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ttp://www.naturegrid.org.uk/plant/parts.htm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http://www.hhmi.org/coolscience/vegquiz/plantparts.htm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4" descr="fern"/>
          <p:cNvPicPr/>
          <p:nvPr/>
        </p:nvPicPr>
        <p:blipFill>
          <a:blip r:embed="rId7"/>
          <a:stretch/>
        </p:blipFill>
        <p:spPr>
          <a:xfrm>
            <a:off x="6324480" y="0"/>
            <a:ext cx="2590920" cy="1782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Resources: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ttp://www.hcs.ohio-state.edu/hcs300/glossary/glossary.ht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ttp://classroom.jc-schools.net/sci-units/plants-animals.ht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ttp://www.urbanext.uiuc.edu/gpe/case1/facts.htm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ttp://www.firstschoolyears.com/science/worksheets/plants/plants.html  (go to label the plant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ttp://www.naturegrid.org.uk/plant/parts.htm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ttp://www.hhmi.org/coolscience/vegquiz/plantparts.htm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Picture 4" descr="fern"/>
          <p:cNvPicPr/>
          <p:nvPr/>
        </p:nvPicPr>
        <p:blipFill>
          <a:blip r:embed="rId1"/>
          <a:stretch/>
        </p:blipFill>
        <p:spPr>
          <a:xfrm>
            <a:off x="6324480" y="0"/>
            <a:ext cx="2590920" cy="1782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The student will learn: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escribe the function of the following plant parts: Leaves, Stems, Flowers, Roo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5" descr="teacherexplain"/>
          <p:cNvPicPr/>
          <p:nvPr/>
        </p:nvPicPr>
        <p:blipFill>
          <a:blip r:embed="rId1"/>
          <a:stretch/>
        </p:blipFill>
        <p:spPr>
          <a:xfrm>
            <a:off x="5105520" y="4216320"/>
            <a:ext cx="3124080" cy="22179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The Stem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holds up the plant parts above the ground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has tiny tubes to transport water and nutrients to the plant’s parts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4" descr="cacti"/>
          <p:cNvPicPr/>
          <p:nvPr/>
        </p:nvPicPr>
        <p:blipFill>
          <a:blip r:embed="rId1"/>
          <a:stretch/>
        </p:blipFill>
        <p:spPr>
          <a:xfrm>
            <a:off x="7342200" y="1371600"/>
            <a:ext cx="1801800" cy="33526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Leaves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Make food for plants which is sugar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Take in carbon dioxide through tiny openings in the leave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leaf1"/>
          <p:cNvPicPr/>
          <p:nvPr/>
        </p:nvPicPr>
        <p:blipFill>
          <a:blip r:embed="rId1"/>
          <a:stretch/>
        </p:blipFill>
        <p:spPr>
          <a:xfrm>
            <a:off x="3962520" y="304920"/>
            <a:ext cx="327636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leaf1"/>
          <p:cNvPicPr/>
          <p:nvPr/>
        </p:nvPicPr>
        <p:blipFill>
          <a:blip r:embed="rId2"/>
          <a:stretch/>
        </p:blipFill>
        <p:spPr>
          <a:xfrm>
            <a:off x="6858000" y="914400"/>
            <a:ext cx="1733400" cy="9237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Roots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Hold the plant in the ground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ake in water and nutrients for the plant’s growth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5" descr="roots"/>
          <p:cNvPicPr/>
          <p:nvPr/>
        </p:nvPicPr>
        <p:blipFill>
          <a:blip r:embed="rId1"/>
          <a:stretch/>
        </p:blipFill>
        <p:spPr>
          <a:xfrm>
            <a:off x="1371600" y="4724280"/>
            <a:ext cx="7086600" cy="2079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Flowers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 flower helps make see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6" descr="roseorange"/>
          <p:cNvPicPr/>
          <p:nvPr/>
        </p:nvPicPr>
        <p:blipFill>
          <a:blip r:embed="rId1"/>
          <a:stretch/>
        </p:blipFill>
        <p:spPr>
          <a:xfrm>
            <a:off x="2895480" y="3200400"/>
            <a:ext cx="3581640" cy="33685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et’s see what you learned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ich part of the plant holds it in the ground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et’s see what you learned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ich part of the plant holds it in the ground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rial"/>
              </a:rPr>
              <a:t>Roots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et’s see what you learned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ich part of the plant makes food for the plant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7:41:49Z</dcterms:created>
  <dc:creator>Jefferson County Tech Center</dc:creator>
  <dc:description/>
  <dc:language>en-US</dc:language>
  <cp:lastModifiedBy>admin</cp:lastModifiedBy>
  <dcterms:modified xsi:type="dcterms:W3CDTF">2011-02-03T18:37:11Z</dcterms:modified>
  <cp:revision>4</cp:revision>
  <dc:subject/>
  <dc:title>Parts of a Plant</dc:title>
</cp:coreProperties>
</file>